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CAMERA.WAV" ContentType="audio/x-wav"/>
  <Override PartName="/ppt/media/image10.png" ContentType="image/png"/>
  <Override PartName="/ppt/media/image7.jpeg" ContentType="image/jpe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B95-7FE2-4596-8976-D947474A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by producing more cells, not cells getting bigger same size now as baby, size or organism depends on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enables multicellular organisims to grow and develop from a single fertilized egg – one single cell can divide to form a multicellular hu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grow a little bit ex fat cells don’t divide once reach puberty –but can grow much l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B43D-CA98-47D1-97CA-EDE0FC5D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3641-3C14-40DA-BC78-C351D73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B797-3AEF-4457-8F3D-240F0721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AA1B-F9AE-40C5-8BD0-BD9C8B43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C5B2-E6A7-4AF6-86D1-14902BDD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6E21-1F02-4F8A-AC42-932E5D7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4F85-3E17-46D3-9818-0E1355F6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3D8B-CDD1-409D-866E-6BE9018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DC6-1589-416C-9277-2FBC2E21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FDAC-204F-42E6-9598-274011CE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46B3-9561-41E2-AAED-1ABC992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6FCD-FA11-481B-8930-352F5DF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6F7D-F3DA-4A9A-B802-312A568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8DC-BDFD-4DF0-8288-638C4ED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B3C-4389-424C-B62A-E42981D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016-8CAF-471B-966A-FBEF412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3A3-9593-45B8-9771-431BA0B7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68FC-024E-437D-896A-ADF2BC5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D6CE-AFB4-40BE-9A74-1CA4F08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02D0-61C3-4346-B8B1-943CA2A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A430-9CB3-4262-9155-48824EB0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9DD1-DE42-4447-A2D3-78D7846C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C5BE-1B63-4942-A424-497E72B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C3D3-8054-45A3-A0E5-E185B44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8F2-9757-4DCC-A910-B0948668C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F41-C12C-48F9-9D93-FA0B0FC9C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19360" y="990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nd Why Cells Div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46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n do cells divid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wth of a multi-cellular organism - due to increase in # of cells, not size of cell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t growing in size still produce new cells to replace o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2117880"/>
            <a:ext cx="5715000" cy="4740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ils up into visibl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ntrio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gin to migrate to opposite sides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cleus begins to dissappear as nuclear envelope and nucleolus disinteg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67080" y="1998720"/>
            <a:ext cx="4876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43200" y="2106720"/>
            <a:ext cx="6400800" cy="4505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pindle fib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form between centri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And attach to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2300400"/>
            <a:ext cx="4343400" cy="4217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7720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long the equato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shortest ph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matids split and one is pulled to each of the poles; centromere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chromatid is iden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copy of each chromosome goes to each side (po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32200" y="1600200"/>
            <a:ext cx="377028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62720" y="2286000"/>
            <a:ext cx="2666880" cy="3505320"/>
          </a:xfrm>
          <a:custGeom>
            <a:avLst/>
            <a:gdLst/>
            <a:ahLst/>
            <a:rect l="l" t="t" r="r" b="b"/>
            <a:pathLst>
              <a:path w="1680" h="2208">
                <a:moveTo>
                  <a:pt x="144" y="0"/>
                </a:moveTo>
                <a:lnTo>
                  <a:pt x="1632" y="144"/>
                </a:lnTo>
                <a:lnTo>
                  <a:pt x="1680" y="2208"/>
                </a:lnTo>
                <a:lnTo>
                  <a:pt x="0" y="2112"/>
                </a:lnTo>
                <a:lnTo>
                  <a:pt x="144" y="0"/>
                </a:lnTo>
                <a:close/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l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nal phase of mit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romatids reach opposite ends of the ce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posite events of prophas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romosomes unwind into chromat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indle breaks dow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uclear envelope forms around 2 new sets of chromosomes (to create 2 new nuclei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ucleolus forms in each nucl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ytokinesis begins (before telophase is finishe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44880" y="1600200"/>
            <a:ext cx="364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d of Mit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clei go back into inter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kinesis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29172"/>
          <a:stretch/>
        </p:blipFill>
        <p:spPr>
          <a:xfrm>
            <a:off x="1066680" y="2590920"/>
            <a:ext cx="6553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ytokin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 Cleavage Furr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rane pinches off and half of the cell contents go to each new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aught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nt Cell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s Cell Pl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plants have a rigid cell wall, the plasma membrane does not pinch in; a cell plate forms across the equa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5261"/>
          <a:stretch/>
        </p:blipFill>
        <p:spPr>
          <a:xfrm>
            <a:off x="7459560" y="4572000"/>
            <a:ext cx="168444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5257800" y="4419720"/>
            <a:ext cx="221940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0" t="0" r="48840" b="7580"/>
          <a:stretch/>
        </p:blipFill>
        <p:spPr>
          <a:xfrm>
            <a:off x="6019920" y="304920"/>
            <a:ext cx="236376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58140" t="12634" r="4650" b="45477"/>
          <a:stretch/>
        </p:blipFill>
        <p:spPr>
          <a:xfrm>
            <a:off x="3809880" y="4191120"/>
            <a:ext cx="13669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4:50:20Z</dcterms:created>
  <dc:creator>Tricia</dc:creator>
  <dc:description/>
  <dc:language>en-US</dc:language>
  <cp:lastModifiedBy>Tricia</cp:lastModifiedBy>
  <dcterms:modified xsi:type="dcterms:W3CDTF">2007-01-31T14:53:50Z</dcterms:modified>
  <cp:revision>2</cp:revision>
  <dc:subject/>
  <dc:title>Mitosis and Meiosis</dc:title>
</cp:coreProperties>
</file>